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 anchorCtr="1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9520" y="1580760"/>
            <a:ext cx="822780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9520" y="3800160"/>
            <a:ext cx="822780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 anchorCtr="1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9520" y="158076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55840" y="158076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9520" y="380016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55840" y="380016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 anchorCtr="1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9520" y="1580760"/>
            <a:ext cx="264924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1600" y="1580760"/>
            <a:ext cx="264924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03680" y="1580760"/>
            <a:ext cx="264924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9520" y="3800160"/>
            <a:ext cx="264924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1600" y="3800160"/>
            <a:ext cx="264924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03680" y="3800160"/>
            <a:ext cx="264924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 anchorCtr="1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39520" y="1580760"/>
            <a:ext cx="82278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 anchorCtr="1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9520" y="1580760"/>
            <a:ext cx="822780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 anchorCtr="1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9520" y="1580760"/>
            <a:ext cx="401508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5840" y="1580760"/>
            <a:ext cx="401508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 anchorCtr="1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38080" y="6854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 anchorCtr="1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9520" y="158076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5840" y="1580760"/>
            <a:ext cx="401508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9520" y="380016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 anchorCtr="1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9520" y="1580760"/>
            <a:ext cx="82278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 anchorCtr="1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9520" y="1580760"/>
            <a:ext cx="401508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5840" y="158076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55840" y="380016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 anchorCtr="1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9520" y="158076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5840" y="158076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9520" y="3800160"/>
            <a:ext cx="822780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 anchorCtr="1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9520" y="1580760"/>
            <a:ext cx="822780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39520" y="3800160"/>
            <a:ext cx="822780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 anchorCtr="1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9520" y="158076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5840" y="158076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9520" y="380016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55840" y="380016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 anchorCtr="1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9520" y="1580760"/>
            <a:ext cx="264924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21600" y="1580760"/>
            <a:ext cx="264924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03680" y="1580760"/>
            <a:ext cx="264924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39520" y="3800160"/>
            <a:ext cx="264924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21600" y="3800160"/>
            <a:ext cx="264924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03680" y="3800160"/>
            <a:ext cx="264924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 anchorCtr="1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9520" y="1580760"/>
            <a:ext cx="822780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 anchorCtr="1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9520" y="1580760"/>
            <a:ext cx="401508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5840" y="1580760"/>
            <a:ext cx="401508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 anchorCtr="1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6854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 anchorCtr="1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9520" y="158076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5840" y="1580760"/>
            <a:ext cx="401508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9520" y="380016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 anchorCtr="1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9520" y="1580760"/>
            <a:ext cx="401508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5840" y="158076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55840" y="380016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 anchorCtr="1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9520" y="158076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5840" y="1580760"/>
            <a:ext cx="401508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9520" y="3800160"/>
            <a:ext cx="8227800" cy="202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22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 anchorCtr="1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Univers 45 Light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9520" y="1580760"/>
            <a:ext cx="822780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80880" indent="-380880">
              <a:spcBef>
                <a:spcPts val="2200"/>
              </a:spcBef>
              <a:buClr>
                <a:srgbClr val="fafd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1" marL="890640" indent="-318960">
              <a:spcBef>
                <a:spcPts val="2200"/>
              </a:spcBef>
              <a:buClr>
                <a:srgbClr val="ffffff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2" marL="1351080" indent="-270000">
              <a:spcBef>
                <a:spcPts val="2200"/>
              </a:spcBef>
              <a:buClr>
                <a:srgbClr val="ffffff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3" marL="1879560" indent="-338040">
              <a:spcBef>
                <a:spcPts val="2200"/>
              </a:spcBef>
              <a:buClr>
                <a:srgbClr val="ffffff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4" marL="2408400" indent="-338400">
              <a:spcBef>
                <a:spcPts val="2200"/>
              </a:spcBef>
              <a:buClr>
                <a:srgbClr val="ffffff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5" marL="2408400" indent="-338400">
              <a:spcBef>
                <a:spcPts val="2200"/>
              </a:spcBef>
              <a:buClr>
                <a:srgbClr val="ffffff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6" marL="2408400" indent="-338400">
              <a:spcBef>
                <a:spcPts val="2200"/>
              </a:spcBef>
              <a:buClr>
                <a:srgbClr val="ffffff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8584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1b64"/>
                </a:solidFill>
                <a:latin typeface="Univers 55"/>
              </a:defRPr>
            </a:lvl1pPr>
          </a:lstStyle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1b64"/>
                </a:solidFill>
                <a:latin typeface="Univers 55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1320" y="617220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35CC6EB-02AB-44A5-91D5-A94761E91E63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Νοέμβριος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38080" y="304920"/>
            <a:ext cx="8229600" cy="549000"/>
            <a:chOff x="838080" y="304920"/>
            <a:chExt cx="8229600" cy="549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38080" y="304920"/>
              <a:ext cx="182880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2666880" y="304920"/>
              <a:ext cx="64008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l-GR" sz="1500" spc="-1" strike="noStrike">
                  <a:solidFill>
                    <a:srgbClr val="fafd00"/>
                  </a:solidFill>
                  <a:latin typeface="Times New Roman"/>
                </a:rPr>
                <a:t>ΕΛΛΗΝΙΚΗ ΔΗΜΟΚΡΑΤΙΑ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l-GR" sz="1500" spc="-1" strike="noStrike">
                  <a:solidFill>
                    <a:srgbClr val="fafd00"/>
                  </a:solidFill>
                  <a:latin typeface="Times New Roman"/>
                </a:rPr>
                <a:t>ΕΘΝΙΚΗ ΕΠΙΤΡΟΠΗ ΤΗΛΕΠΙΚΟΙΝΩΝΙΩΝ ΚΑΙ ΤΑΧΥΔΡΟΜΕΙΩΝ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304920"/>
              <a:ext cx="18288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30492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38080" y="85392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38080" y="304920"/>
              <a:ext cx="0" cy="549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666880" y="304920"/>
              <a:ext cx="0" cy="54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9067680" y="304920"/>
              <a:ext cx="0" cy="549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7480" y="6188040"/>
            <a:ext cx="80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PMG Logo"/>
              </a:rPr>
              <a:t>kpm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13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Univers 45 Light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51" name=""/>
          <p:cNvSpPr/>
          <p:nvPr/>
        </p:nvSpPr>
        <p:spPr>
          <a:xfrm>
            <a:off x="5353200" y="257040"/>
            <a:ext cx="427644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afd00"/>
                </a:solidFill>
                <a:latin typeface="Univers 45 Light"/>
              </a:rPr>
              <a:t>Ref. </a:t>
            </a:r>
            <a:fld id="{649A5BD9-0E46-45EA-AFC7-E82E5F1CAE52}" type="datetime2">
              <a:rPr b="1" lang="en-US" sz="1000" spc="-1" strike="noStrike">
                <a:solidFill>
                  <a:srgbClr val="fafd00"/>
                </a:solidFill>
                <a:latin typeface="Univers 45 Light"/>
              </a:rPr>
              <a:t>Wednesday, July 29, 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9448560" cy="5333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38160" rIns="38160" tIns="38160" bIns="38160"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ΔΗΜΟΠΡΑΣΙΑ ΓΙΑ ΤΗ ΧΟΡΗΓΗΣΗ ΑΔΕΙΩΝ ΣΤΑΘΕΡΗΣ ΑΣΥΡΜΑΤΗΣ ΠΡΟΣΒΑΣΗ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Παρουσίαση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Διαγραμματικού Σεναρίου Εξέλιξη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Νοέμβριος 2000</a:t>
            </a:r>
            <a:endParaRPr b="1" lang="en-US" sz="3600" spc="-1" strike="noStrike">
              <a:solidFill>
                <a:srgbClr val="fafd00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38160" rIns="38160" tIns="38160" bIns="38160"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1ος Γύρος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afd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Κατά τον 1ο Γύρο οι Συμμετέχοντες στη Δημοπρασία υποβάλλουν Προσφορές για ένα (1) το πολύ Τμήμα Ραδιοσυχνοτήτων σε κάθε Φασματική Περιοχή.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afd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Υπάρχει πιθανότητα κάποια Τμήματα Ραδιοσυχνοτήτων να μην λάβουν Προσφορές στους πρώτους Γύρους όπως παρουσιάζεται στο διάγραμμα για το Τμήμα Ραδιοσυχνοτήτων Βii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181480" y="4343400"/>
            <a:ext cx="4300560" cy="1436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38160" rIns="38160" tIns="38160" bIns="38160"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2ος Γύρος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afd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Κατά τον 2ο Γύρο ο Μπλέ Συμμετέχων υποβάλλει Προσφορά μεγαλύτερη του Πράσινου για το Τμήμα Ραδιοσυχνοτήτων Αi και επομένως γίνεται εκείνος ο Πλειοδότης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afd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Ο Πράσινος και ο Γαλάζιος από τους Συμμετέχοντες υποβάλλουν Προσφορά για το Τμήμα Ραδιοσυχνοτήτων Βii καθότι έχουν το δικαίωμα εφόσον πρόκειται για το Τμήμα Ραδιοσυχνοτήτων άλλης Φασματικής Περιοχής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afd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Συμπτωματικά οι Προσφορές και των δύο είναι ισόποσες και επομένως προκύπτει Ισοπαλία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4120" y="3581280"/>
            <a:ext cx="4311360" cy="2154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38160" rIns="38160" tIns="38160" bIns="38160"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2ος Γύρος (Επίλυση Ισοπαλίας)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41148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afd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Η Επίλυση της Ισοπαλίας γίνεται με τυχαία μέθοδο (κληρωτίδα) και το αποτέλεσμα αναδεικνύει νικητή τον Γαλάζιο Συμμετέχοντα. Αυτός θεωρείται πλέον ο Πλειοδότης για το 2ο Γύρο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afd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Ο Πράσινος Συμμετέχων πλέον δεν είναι σε κανένα Τμήμα Ραδιοσυχνοτήτων Πλειοδότης και οι επιλογές του για τον επόμενο Γύρο είναι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) να υποβάλλει Προσφορά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) να εξασκήσει Δικαίωμα Προσωρινής Αποχής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i) να αποσυρθεί από τη Δημοπρασία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4452840" cy="2308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38160" rIns="38160" tIns="38160" bIns="38160"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3ος Γύρος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14" name=""/>
          <p:cNvSpPr/>
          <p:nvPr/>
        </p:nvSpPr>
        <p:spPr>
          <a:xfrm>
            <a:off x="6637320" y="4183200"/>
            <a:ext cx="398520" cy="6120"/>
          </a:xfrm>
          <a:prstGeom prst="rect">
            <a:avLst/>
          </a:prstGeom>
          <a:solidFill>
            <a:srgbClr val="66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37320" y="4205160"/>
            <a:ext cx="398520" cy="6480"/>
          </a:xfrm>
          <a:prstGeom prst="rect">
            <a:avLst/>
          </a:prstGeom>
          <a:solidFill>
            <a:srgbClr val="68f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37320" y="4227480"/>
            <a:ext cx="398520" cy="7920"/>
          </a:xfrm>
          <a:prstGeom prst="rect">
            <a:avLst/>
          </a:prstGeom>
          <a:solidFill>
            <a:srgbClr val="6bfb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83440" y="4227480"/>
            <a:ext cx="398520" cy="7920"/>
          </a:xfrm>
          <a:prstGeom prst="rect">
            <a:avLst/>
          </a:prstGeom>
          <a:solidFill>
            <a:srgbClr val="6ff7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37320" y="4317840"/>
            <a:ext cx="398520" cy="7920"/>
          </a:xfrm>
          <a:prstGeom prst="rect">
            <a:avLst/>
          </a:prstGeom>
          <a:solidFill>
            <a:srgbClr val="83e5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37320" y="4340160"/>
            <a:ext cx="398520" cy="7920"/>
          </a:xfrm>
          <a:prstGeom prst="rect">
            <a:avLst/>
          </a:prstGeom>
          <a:solidFill>
            <a:srgbClr val="8ad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37320" y="4362480"/>
            <a:ext cx="398520" cy="7920"/>
          </a:xfrm>
          <a:prstGeom prst="rect">
            <a:avLst/>
          </a:prstGeom>
          <a:solidFill>
            <a:srgbClr val="8fd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83440" y="4363920"/>
            <a:ext cx="398520" cy="6480"/>
          </a:xfrm>
          <a:prstGeom prst="rect">
            <a:avLst/>
          </a:prstGeom>
          <a:solidFill>
            <a:srgbClr val="93d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37320" y="4392720"/>
            <a:ext cx="398520" cy="15840"/>
          </a:xfrm>
          <a:prstGeom prst="rect">
            <a:avLst/>
          </a:prstGeom>
          <a:solidFill>
            <a:srgbClr val="95d0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83440" y="4394160"/>
            <a:ext cx="398520" cy="14400"/>
          </a:xfrm>
          <a:prstGeom prst="rect">
            <a:avLst/>
          </a:prstGeom>
          <a:solidFill>
            <a:srgbClr val="97c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37320" y="4430880"/>
            <a:ext cx="398520" cy="7920"/>
          </a:xfrm>
          <a:prstGeom prst="rect">
            <a:avLst/>
          </a:prstGeom>
          <a:solidFill>
            <a:srgbClr val="98cc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37320" y="4438800"/>
            <a:ext cx="398520" cy="6120"/>
          </a:xfrm>
          <a:prstGeom prst="rect">
            <a:avLst/>
          </a:prstGeom>
          <a:solidFill>
            <a:srgbClr val="98cc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83440" y="4438800"/>
            <a:ext cx="398520" cy="7920"/>
          </a:xfrm>
          <a:prstGeom prst="rect">
            <a:avLst/>
          </a:prstGeom>
          <a:solidFill>
            <a:srgbClr val="98cc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37320" y="4468680"/>
            <a:ext cx="398520" cy="14400"/>
          </a:xfrm>
          <a:prstGeom prst="rect">
            <a:avLst/>
          </a:prstGeom>
          <a:solidFill>
            <a:srgbClr val="97c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37320" y="4529160"/>
            <a:ext cx="398520" cy="6480"/>
          </a:xfrm>
          <a:prstGeom prst="rect">
            <a:avLst/>
          </a:prstGeom>
          <a:solidFill>
            <a:srgbClr val="8fd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37320" y="4549680"/>
            <a:ext cx="398520" cy="9720"/>
          </a:xfrm>
          <a:prstGeom prst="rect">
            <a:avLst/>
          </a:prstGeom>
          <a:solidFill>
            <a:srgbClr val="8ad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37320" y="4573440"/>
            <a:ext cx="398520" cy="6480"/>
          </a:xfrm>
          <a:prstGeom prst="rect">
            <a:avLst/>
          </a:prstGeom>
          <a:solidFill>
            <a:srgbClr val="83e5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37320" y="4641840"/>
            <a:ext cx="398520" cy="7920"/>
          </a:xfrm>
          <a:prstGeom prst="rect">
            <a:avLst/>
          </a:prstGeom>
          <a:solidFill>
            <a:srgbClr val="6ff7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37320" y="4664160"/>
            <a:ext cx="398520" cy="7920"/>
          </a:xfrm>
          <a:prstGeom prst="rect">
            <a:avLst/>
          </a:prstGeom>
          <a:solidFill>
            <a:srgbClr val="6bfb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37320" y="4686480"/>
            <a:ext cx="398520" cy="7920"/>
          </a:xfrm>
          <a:prstGeom prst="rect">
            <a:avLst/>
          </a:prstGeom>
          <a:solidFill>
            <a:srgbClr val="68f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83440" y="4686480"/>
            <a:ext cx="398520" cy="7920"/>
          </a:xfrm>
          <a:prstGeom prst="rect">
            <a:avLst/>
          </a:prstGeom>
          <a:solidFill>
            <a:srgbClr val="66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993160" y="3938760"/>
            <a:ext cx="531720" cy="9360"/>
          </a:xfrm>
          <a:prstGeom prst="rect">
            <a:avLst/>
          </a:prstGeom>
          <a:solidFill>
            <a:srgbClr val="6bfb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993160" y="3973680"/>
            <a:ext cx="531720" cy="15840"/>
          </a:xfrm>
          <a:prstGeom prst="rect">
            <a:avLst/>
          </a:prstGeom>
          <a:solidFill>
            <a:srgbClr val="72f5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993160" y="4016520"/>
            <a:ext cx="531720" cy="7920"/>
          </a:xfrm>
          <a:prstGeom prst="rect">
            <a:avLst/>
          </a:prstGeom>
          <a:solidFill>
            <a:srgbClr val="7ce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993160" y="4092480"/>
            <a:ext cx="531720" cy="9720"/>
          </a:xfrm>
          <a:prstGeom prst="rect">
            <a:avLst/>
          </a:prstGeom>
          <a:solidFill>
            <a:srgbClr val="8fd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993160" y="4145040"/>
            <a:ext cx="531720" cy="7920"/>
          </a:xfrm>
          <a:prstGeom prst="rect">
            <a:avLst/>
          </a:prstGeom>
          <a:solidFill>
            <a:srgbClr val="96c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993160" y="4170240"/>
            <a:ext cx="531720" cy="9720"/>
          </a:xfrm>
          <a:prstGeom prst="rect">
            <a:avLst/>
          </a:prstGeom>
          <a:solidFill>
            <a:srgbClr val="98cc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993160" y="4203720"/>
            <a:ext cx="531720" cy="11160"/>
          </a:xfrm>
          <a:prstGeom prst="rect">
            <a:avLst/>
          </a:prstGeom>
          <a:solidFill>
            <a:srgbClr val="98cc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993160" y="4282920"/>
            <a:ext cx="531720" cy="7920"/>
          </a:xfrm>
          <a:prstGeom prst="rect">
            <a:avLst/>
          </a:prstGeom>
          <a:solidFill>
            <a:srgbClr val="8fd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993160" y="4359240"/>
            <a:ext cx="531720" cy="9720"/>
          </a:xfrm>
          <a:prstGeom prst="rect">
            <a:avLst/>
          </a:prstGeom>
          <a:solidFill>
            <a:srgbClr val="7ce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993160" y="4411800"/>
            <a:ext cx="531720" cy="7920"/>
          </a:xfrm>
          <a:prstGeom prst="rect">
            <a:avLst/>
          </a:prstGeom>
          <a:solidFill>
            <a:srgbClr val="6ff7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993160" y="4437000"/>
            <a:ext cx="531720" cy="9720"/>
          </a:xfrm>
          <a:prstGeom prst="rect">
            <a:avLst/>
          </a:prstGeom>
          <a:solidFill>
            <a:srgbClr val="6bfb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993160" y="4489560"/>
            <a:ext cx="531720" cy="7920"/>
          </a:xfrm>
          <a:prstGeom prst="rect">
            <a:avLst/>
          </a:prstGeom>
          <a:solidFill>
            <a:srgbClr val="66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403848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afd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Ο Μπλε και ο Γαλάζιος αφού είναι  Πλειοδότες σε Τμήματα Ραδιοσυχνοτήτων και στις δύο Φασματικές Περιοχές δεν υποβάλλουν νέα Προσφορά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afd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Ο Πράσινος Συμμετέχων επιλέγει να εξασκήσει ένα Δικαίωμα Προσωρινής Αποχής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48" name=""/>
          <p:cNvSpPr/>
          <p:nvPr/>
        </p:nvSpPr>
        <p:spPr>
          <a:xfrm>
            <a:off x="8924760" y="3844800"/>
            <a:ext cx="532080" cy="7920"/>
          </a:xfrm>
          <a:prstGeom prst="rect">
            <a:avLst/>
          </a:prstGeom>
          <a:solidFill>
            <a:srgbClr val="68f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924760" y="3921120"/>
            <a:ext cx="532080" cy="9360"/>
          </a:xfrm>
          <a:prstGeom prst="rect">
            <a:avLst/>
          </a:prstGeom>
          <a:solidFill>
            <a:srgbClr val="75f2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924760" y="3973680"/>
            <a:ext cx="532080" cy="9360"/>
          </a:xfrm>
          <a:prstGeom prst="rect">
            <a:avLst/>
          </a:prstGeom>
          <a:solidFill>
            <a:srgbClr val="83e5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924760" y="3998880"/>
            <a:ext cx="532080" cy="9720"/>
          </a:xfrm>
          <a:prstGeom prst="rect">
            <a:avLst/>
          </a:prstGeom>
          <a:solidFill>
            <a:srgbClr val="8ad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24760" y="4051440"/>
            <a:ext cx="532080" cy="7920"/>
          </a:xfrm>
          <a:prstGeom prst="rect">
            <a:avLst/>
          </a:prstGeom>
          <a:solidFill>
            <a:srgbClr val="93d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924760" y="4111560"/>
            <a:ext cx="532080" cy="7920"/>
          </a:xfrm>
          <a:prstGeom prst="rect">
            <a:avLst/>
          </a:prstGeom>
          <a:solidFill>
            <a:srgbClr val="98cc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924760" y="4187880"/>
            <a:ext cx="532080" cy="9360"/>
          </a:xfrm>
          <a:prstGeom prst="rect">
            <a:avLst/>
          </a:prstGeom>
          <a:solidFill>
            <a:srgbClr val="93d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924760" y="4265640"/>
            <a:ext cx="532080" cy="7920"/>
          </a:xfrm>
          <a:prstGeom prst="rect">
            <a:avLst/>
          </a:prstGeom>
          <a:solidFill>
            <a:srgbClr val="83e5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924760" y="4317840"/>
            <a:ext cx="532080" cy="7920"/>
          </a:xfrm>
          <a:prstGeom prst="rect">
            <a:avLst/>
          </a:prstGeom>
          <a:solidFill>
            <a:srgbClr val="75f2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924760" y="4394160"/>
            <a:ext cx="532080" cy="7920"/>
          </a:xfrm>
          <a:prstGeom prst="rect">
            <a:avLst/>
          </a:prstGeom>
          <a:solidFill>
            <a:srgbClr val="68f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952880" y="2971800"/>
            <a:ext cx="4550040" cy="2649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38160" rIns="38160" tIns="38160" bIns="38160"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4ος Γύρος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60" name=""/>
          <p:cNvSpPr/>
          <p:nvPr/>
        </p:nvSpPr>
        <p:spPr>
          <a:xfrm>
            <a:off x="6637320" y="4183200"/>
            <a:ext cx="398520" cy="6120"/>
          </a:xfrm>
          <a:prstGeom prst="rect">
            <a:avLst/>
          </a:prstGeom>
          <a:solidFill>
            <a:srgbClr val="66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37320" y="4205160"/>
            <a:ext cx="398520" cy="6480"/>
          </a:xfrm>
          <a:prstGeom prst="rect">
            <a:avLst/>
          </a:prstGeom>
          <a:solidFill>
            <a:srgbClr val="68f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37320" y="4227480"/>
            <a:ext cx="398520" cy="7920"/>
          </a:xfrm>
          <a:prstGeom prst="rect">
            <a:avLst/>
          </a:prstGeom>
          <a:solidFill>
            <a:srgbClr val="6bfb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83440" y="4227480"/>
            <a:ext cx="398520" cy="7920"/>
          </a:xfrm>
          <a:prstGeom prst="rect">
            <a:avLst/>
          </a:prstGeom>
          <a:solidFill>
            <a:srgbClr val="6ff7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37320" y="4317840"/>
            <a:ext cx="398520" cy="7920"/>
          </a:xfrm>
          <a:prstGeom prst="rect">
            <a:avLst/>
          </a:prstGeom>
          <a:solidFill>
            <a:srgbClr val="83e5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37320" y="4340160"/>
            <a:ext cx="398520" cy="7920"/>
          </a:xfrm>
          <a:prstGeom prst="rect">
            <a:avLst/>
          </a:prstGeom>
          <a:solidFill>
            <a:srgbClr val="8ad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37320" y="4362480"/>
            <a:ext cx="398520" cy="7920"/>
          </a:xfrm>
          <a:prstGeom prst="rect">
            <a:avLst/>
          </a:prstGeom>
          <a:solidFill>
            <a:srgbClr val="8fd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83440" y="4363920"/>
            <a:ext cx="398520" cy="6480"/>
          </a:xfrm>
          <a:prstGeom prst="rect">
            <a:avLst/>
          </a:prstGeom>
          <a:solidFill>
            <a:srgbClr val="93d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37320" y="4392720"/>
            <a:ext cx="398520" cy="15840"/>
          </a:xfrm>
          <a:prstGeom prst="rect">
            <a:avLst/>
          </a:prstGeom>
          <a:solidFill>
            <a:srgbClr val="95d0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83440" y="4394160"/>
            <a:ext cx="398520" cy="14400"/>
          </a:xfrm>
          <a:prstGeom prst="rect">
            <a:avLst/>
          </a:prstGeom>
          <a:solidFill>
            <a:srgbClr val="97c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37320" y="4430880"/>
            <a:ext cx="398520" cy="7920"/>
          </a:xfrm>
          <a:prstGeom prst="rect">
            <a:avLst/>
          </a:prstGeom>
          <a:solidFill>
            <a:srgbClr val="98cc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37320" y="4438800"/>
            <a:ext cx="398520" cy="6120"/>
          </a:xfrm>
          <a:prstGeom prst="rect">
            <a:avLst/>
          </a:prstGeom>
          <a:solidFill>
            <a:srgbClr val="98cc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83440" y="4438800"/>
            <a:ext cx="398520" cy="7920"/>
          </a:xfrm>
          <a:prstGeom prst="rect">
            <a:avLst/>
          </a:prstGeom>
          <a:solidFill>
            <a:srgbClr val="98cc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37320" y="4468680"/>
            <a:ext cx="398520" cy="14400"/>
          </a:xfrm>
          <a:prstGeom prst="rect">
            <a:avLst/>
          </a:prstGeom>
          <a:solidFill>
            <a:srgbClr val="97c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37320" y="4529160"/>
            <a:ext cx="398520" cy="6480"/>
          </a:xfrm>
          <a:prstGeom prst="rect">
            <a:avLst/>
          </a:prstGeom>
          <a:solidFill>
            <a:srgbClr val="8fd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37320" y="4549680"/>
            <a:ext cx="398520" cy="9720"/>
          </a:xfrm>
          <a:prstGeom prst="rect">
            <a:avLst/>
          </a:prstGeom>
          <a:solidFill>
            <a:srgbClr val="8ad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37320" y="4573440"/>
            <a:ext cx="398520" cy="6480"/>
          </a:xfrm>
          <a:prstGeom prst="rect">
            <a:avLst/>
          </a:prstGeom>
          <a:solidFill>
            <a:srgbClr val="83e5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37320" y="4641840"/>
            <a:ext cx="398520" cy="7920"/>
          </a:xfrm>
          <a:prstGeom prst="rect">
            <a:avLst/>
          </a:prstGeom>
          <a:solidFill>
            <a:srgbClr val="6ff7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37320" y="4664160"/>
            <a:ext cx="398520" cy="7920"/>
          </a:xfrm>
          <a:prstGeom prst="rect">
            <a:avLst/>
          </a:prstGeom>
          <a:solidFill>
            <a:srgbClr val="6bfb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37320" y="4686480"/>
            <a:ext cx="398520" cy="7920"/>
          </a:xfrm>
          <a:prstGeom prst="rect">
            <a:avLst/>
          </a:prstGeom>
          <a:solidFill>
            <a:srgbClr val="68f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83440" y="4686480"/>
            <a:ext cx="398520" cy="7920"/>
          </a:xfrm>
          <a:prstGeom prst="rect">
            <a:avLst/>
          </a:prstGeom>
          <a:solidFill>
            <a:srgbClr val="66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37339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afd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Ο Πράσινος Συμμετέχων επιλέγει να υποβάλλει ταυτόχρονα Προσφορά σε δύο ξεχωριστά Τμήματα Ραδιοσυχνοτήτων (κάθε ένα σε διαφορετική Φασματική Περιοχή) και γίνεται Πλειοδότης στην Aii και Bii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82" name=""/>
          <p:cNvSpPr/>
          <p:nvPr/>
        </p:nvSpPr>
        <p:spPr>
          <a:xfrm>
            <a:off x="8910720" y="3251160"/>
            <a:ext cx="504720" cy="9720"/>
          </a:xfrm>
          <a:prstGeom prst="rect">
            <a:avLst/>
          </a:prstGeom>
          <a:solidFill>
            <a:srgbClr val="68f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910720" y="3308400"/>
            <a:ext cx="504720" cy="7920"/>
          </a:xfrm>
          <a:prstGeom prst="rect">
            <a:avLst/>
          </a:prstGeom>
          <a:solidFill>
            <a:srgbClr val="6ff7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910720" y="3365640"/>
            <a:ext cx="504720" cy="9360"/>
          </a:xfrm>
          <a:prstGeom prst="rect">
            <a:avLst/>
          </a:prstGeom>
          <a:solidFill>
            <a:srgbClr val="7ce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910720" y="3421080"/>
            <a:ext cx="504720" cy="9360"/>
          </a:xfrm>
          <a:prstGeom prst="rect">
            <a:avLst/>
          </a:prstGeom>
          <a:solidFill>
            <a:srgbClr val="8ad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910720" y="3479760"/>
            <a:ext cx="504720" cy="9720"/>
          </a:xfrm>
          <a:prstGeom prst="rect">
            <a:avLst/>
          </a:prstGeom>
          <a:solidFill>
            <a:srgbClr val="93d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910720" y="3535200"/>
            <a:ext cx="504720" cy="9720"/>
          </a:xfrm>
          <a:prstGeom prst="rect">
            <a:avLst/>
          </a:prstGeom>
          <a:solidFill>
            <a:srgbClr val="98cc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910720" y="3573360"/>
            <a:ext cx="504720" cy="9720"/>
          </a:xfrm>
          <a:prstGeom prst="rect">
            <a:avLst/>
          </a:prstGeom>
          <a:solidFill>
            <a:srgbClr val="98cc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910720" y="3632040"/>
            <a:ext cx="504720" cy="9720"/>
          </a:xfrm>
          <a:prstGeom prst="rect">
            <a:avLst/>
          </a:prstGeom>
          <a:solidFill>
            <a:srgbClr val="93d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910720" y="3687840"/>
            <a:ext cx="504720" cy="9360"/>
          </a:xfrm>
          <a:prstGeom prst="rect">
            <a:avLst/>
          </a:prstGeom>
          <a:solidFill>
            <a:srgbClr val="8ad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910720" y="3746520"/>
            <a:ext cx="504720" cy="9360"/>
          </a:xfrm>
          <a:prstGeom prst="rect">
            <a:avLst/>
          </a:prstGeom>
          <a:solidFill>
            <a:srgbClr val="7ce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910720" y="3803760"/>
            <a:ext cx="504720" cy="9360"/>
          </a:xfrm>
          <a:prstGeom prst="rect">
            <a:avLst/>
          </a:prstGeom>
          <a:solidFill>
            <a:srgbClr val="6ff7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910720" y="3860640"/>
            <a:ext cx="504720" cy="9720"/>
          </a:xfrm>
          <a:prstGeom prst="rect">
            <a:avLst/>
          </a:prstGeom>
          <a:solidFill>
            <a:srgbClr val="68f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4421160" cy="3648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38160" rIns="38160" tIns="38160" bIns="38160"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5ος Γύρος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96" name=""/>
          <p:cNvSpPr/>
          <p:nvPr/>
        </p:nvSpPr>
        <p:spPr>
          <a:xfrm>
            <a:off x="6637320" y="4183200"/>
            <a:ext cx="398520" cy="6120"/>
          </a:xfrm>
          <a:prstGeom prst="rect">
            <a:avLst/>
          </a:prstGeom>
          <a:solidFill>
            <a:srgbClr val="66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37320" y="4205160"/>
            <a:ext cx="398520" cy="6480"/>
          </a:xfrm>
          <a:prstGeom prst="rect">
            <a:avLst/>
          </a:prstGeom>
          <a:solidFill>
            <a:srgbClr val="68f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37320" y="4227480"/>
            <a:ext cx="398520" cy="7920"/>
          </a:xfrm>
          <a:prstGeom prst="rect">
            <a:avLst/>
          </a:prstGeom>
          <a:solidFill>
            <a:srgbClr val="6bfb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83440" y="4227480"/>
            <a:ext cx="398520" cy="7920"/>
          </a:xfrm>
          <a:prstGeom prst="rect">
            <a:avLst/>
          </a:prstGeom>
          <a:solidFill>
            <a:srgbClr val="6ff7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37320" y="4317840"/>
            <a:ext cx="398520" cy="7920"/>
          </a:xfrm>
          <a:prstGeom prst="rect">
            <a:avLst/>
          </a:prstGeom>
          <a:solidFill>
            <a:srgbClr val="83e5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37320" y="4340160"/>
            <a:ext cx="398520" cy="7920"/>
          </a:xfrm>
          <a:prstGeom prst="rect">
            <a:avLst/>
          </a:prstGeom>
          <a:solidFill>
            <a:srgbClr val="8ad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37320" y="4362480"/>
            <a:ext cx="398520" cy="7920"/>
          </a:xfrm>
          <a:prstGeom prst="rect">
            <a:avLst/>
          </a:prstGeom>
          <a:solidFill>
            <a:srgbClr val="8fd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83440" y="4363920"/>
            <a:ext cx="398520" cy="6480"/>
          </a:xfrm>
          <a:prstGeom prst="rect">
            <a:avLst/>
          </a:prstGeom>
          <a:solidFill>
            <a:srgbClr val="93d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37320" y="4392720"/>
            <a:ext cx="398520" cy="15840"/>
          </a:xfrm>
          <a:prstGeom prst="rect">
            <a:avLst/>
          </a:prstGeom>
          <a:solidFill>
            <a:srgbClr val="95d0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83440" y="4394160"/>
            <a:ext cx="398520" cy="14400"/>
          </a:xfrm>
          <a:prstGeom prst="rect">
            <a:avLst/>
          </a:prstGeom>
          <a:solidFill>
            <a:srgbClr val="97c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637320" y="4430880"/>
            <a:ext cx="398520" cy="7920"/>
          </a:xfrm>
          <a:prstGeom prst="rect">
            <a:avLst/>
          </a:prstGeom>
          <a:solidFill>
            <a:srgbClr val="98cc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37320" y="4438800"/>
            <a:ext cx="398520" cy="6120"/>
          </a:xfrm>
          <a:prstGeom prst="rect">
            <a:avLst/>
          </a:prstGeom>
          <a:solidFill>
            <a:srgbClr val="98cc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3440" y="4438800"/>
            <a:ext cx="398520" cy="7920"/>
          </a:xfrm>
          <a:prstGeom prst="rect">
            <a:avLst/>
          </a:prstGeom>
          <a:solidFill>
            <a:srgbClr val="98cc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37320" y="4468680"/>
            <a:ext cx="398520" cy="14400"/>
          </a:xfrm>
          <a:prstGeom prst="rect">
            <a:avLst/>
          </a:prstGeom>
          <a:solidFill>
            <a:srgbClr val="97c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37320" y="4529160"/>
            <a:ext cx="398520" cy="6480"/>
          </a:xfrm>
          <a:prstGeom prst="rect">
            <a:avLst/>
          </a:prstGeom>
          <a:solidFill>
            <a:srgbClr val="8fd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37320" y="4549680"/>
            <a:ext cx="398520" cy="9720"/>
          </a:xfrm>
          <a:prstGeom prst="rect">
            <a:avLst/>
          </a:prstGeom>
          <a:solidFill>
            <a:srgbClr val="8ad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37320" y="4573440"/>
            <a:ext cx="398520" cy="6480"/>
          </a:xfrm>
          <a:prstGeom prst="rect">
            <a:avLst/>
          </a:prstGeom>
          <a:solidFill>
            <a:srgbClr val="83e5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37320" y="4641840"/>
            <a:ext cx="398520" cy="7920"/>
          </a:xfrm>
          <a:prstGeom prst="rect">
            <a:avLst/>
          </a:prstGeom>
          <a:solidFill>
            <a:srgbClr val="6ff7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37320" y="4664160"/>
            <a:ext cx="398520" cy="7920"/>
          </a:xfrm>
          <a:prstGeom prst="rect">
            <a:avLst/>
          </a:prstGeom>
          <a:solidFill>
            <a:srgbClr val="6bfb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37320" y="4686480"/>
            <a:ext cx="398520" cy="7920"/>
          </a:xfrm>
          <a:prstGeom prst="rect">
            <a:avLst/>
          </a:prstGeom>
          <a:solidFill>
            <a:srgbClr val="68f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83440" y="4686480"/>
            <a:ext cx="398520" cy="7920"/>
          </a:xfrm>
          <a:prstGeom prst="rect">
            <a:avLst/>
          </a:prstGeom>
          <a:solidFill>
            <a:srgbClr val="66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396252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afd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Οι επιλογές για τον 5ο Γύρο για τον Γαλάζιο Συμμετέχοντα ήταν </a:t>
            </a:r>
            <a:br>
              <a:rPr sz="1800"/>
            </a:b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i) να υποβάλλει Προσφορά </a:t>
            </a:r>
            <a:br>
              <a:rPr sz="1800"/>
            </a:b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ii) να εξασκήσει Δικαίωμα Προσωρινής Αποχής </a:t>
            </a:r>
            <a:br>
              <a:rPr sz="1800"/>
            </a:b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iii) να αποσυρθεί από τη Δημοπρασία. Επέλεξε να υποβάλλει Προσφορά μόνο σε ένα Τμήμα Ραδιοσυχνοτήτων και έγινε Πλειοδότης στο Τμήμα Ραδιοσυχνοτήτων Bi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18" name=""/>
          <p:cNvSpPr/>
          <p:nvPr/>
        </p:nvSpPr>
        <p:spPr>
          <a:xfrm>
            <a:off x="8666280" y="3654360"/>
            <a:ext cx="504720" cy="9720"/>
          </a:xfrm>
          <a:prstGeom prst="rect">
            <a:avLst/>
          </a:prstGeom>
          <a:solidFill>
            <a:srgbClr val="66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666280" y="3711600"/>
            <a:ext cx="504720" cy="9360"/>
          </a:xfrm>
          <a:prstGeom prst="rect">
            <a:avLst/>
          </a:prstGeom>
          <a:solidFill>
            <a:srgbClr val="6bfb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666280" y="3768840"/>
            <a:ext cx="504720" cy="9360"/>
          </a:xfrm>
          <a:prstGeom prst="rect">
            <a:avLst/>
          </a:prstGeom>
          <a:solidFill>
            <a:srgbClr val="75f2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666280" y="3825720"/>
            <a:ext cx="504720" cy="9720"/>
          </a:xfrm>
          <a:prstGeom prst="rect">
            <a:avLst/>
          </a:prstGeom>
          <a:solidFill>
            <a:srgbClr val="83e5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666280" y="3882960"/>
            <a:ext cx="504720" cy="9720"/>
          </a:xfrm>
          <a:prstGeom prst="rect">
            <a:avLst/>
          </a:prstGeom>
          <a:solidFill>
            <a:srgbClr val="8fd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666280" y="3940200"/>
            <a:ext cx="504720" cy="9360"/>
          </a:xfrm>
          <a:prstGeom prst="rect">
            <a:avLst/>
          </a:prstGeom>
          <a:solidFill>
            <a:srgbClr val="96c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666280" y="3978360"/>
            <a:ext cx="504720" cy="9360"/>
          </a:xfrm>
          <a:prstGeom prst="rect">
            <a:avLst/>
          </a:prstGeom>
          <a:solidFill>
            <a:srgbClr val="98cc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666280" y="4035600"/>
            <a:ext cx="504720" cy="9360"/>
          </a:xfrm>
          <a:prstGeom prst="rect">
            <a:avLst/>
          </a:prstGeom>
          <a:solidFill>
            <a:srgbClr val="96c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66280" y="4092480"/>
            <a:ext cx="504720" cy="9720"/>
          </a:xfrm>
          <a:prstGeom prst="rect">
            <a:avLst/>
          </a:prstGeom>
          <a:solidFill>
            <a:srgbClr val="8fd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666280" y="4149720"/>
            <a:ext cx="504720" cy="9360"/>
          </a:xfrm>
          <a:prstGeom prst="rect">
            <a:avLst/>
          </a:prstGeom>
          <a:solidFill>
            <a:srgbClr val="83e5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666280" y="4208400"/>
            <a:ext cx="504720" cy="7920"/>
          </a:xfrm>
          <a:prstGeom prst="rect">
            <a:avLst/>
          </a:prstGeom>
          <a:solidFill>
            <a:srgbClr val="75f2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666280" y="4264200"/>
            <a:ext cx="504720" cy="10800"/>
          </a:xfrm>
          <a:prstGeom prst="rect">
            <a:avLst/>
          </a:prstGeom>
          <a:solidFill>
            <a:srgbClr val="6bfb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666280" y="4322880"/>
            <a:ext cx="504720" cy="7920"/>
          </a:xfrm>
          <a:prstGeom prst="rect">
            <a:avLst/>
          </a:prstGeom>
          <a:solidFill>
            <a:srgbClr val="66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4346640" cy="4383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38160" rIns="38160" tIns="38160" bIns="38160"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6ος Γύρος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233" name=""/>
          <p:cNvSpPr/>
          <p:nvPr/>
        </p:nvSpPr>
        <p:spPr>
          <a:xfrm>
            <a:off x="6637320" y="4183200"/>
            <a:ext cx="398520" cy="6120"/>
          </a:xfrm>
          <a:prstGeom prst="rect">
            <a:avLst/>
          </a:prstGeom>
          <a:solidFill>
            <a:srgbClr val="66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37320" y="4205160"/>
            <a:ext cx="398520" cy="6480"/>
          </a:xfrm>
          <a:prstGeom prst="rect">
            <a:avLst/>
          </a:prstGeom>
          <a:solidFill>
            <a:srgbClr val="68f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37320" y="4227480"/>
            <a:ext cx="398520" cy="7920"/>
          </a:xfrm>
          <a:prstGeom prst="rect">
            <a:avLst/>
          </a:prstGeom>
          <a:solidFill>
            <a:srgbClr val="6bfb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83440" y="4227480"/>
            <a:ext cx="398520" cy="7920"/>
          </a:xfrm>
          <a:prstGeom prst="rect">
            <a:avLst/>
          </a:prstGeom>
          <a:solidFill>
            <a:srgbClr val="6ff7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37320" y="4317840"/>
            <a:ext cx="398520" cy="7920"/>
          </a:xfrm>
          <a:prstGeom prst="rect">
            <a:avLst/>
          </a:prstGeom>
          <a:solidFill>
            <a:srgbClr val="83e5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37320" y="4340160"/>
            <a:ext cx="398520" cy="7920"/>
          </a:xfrm>
          <a:prstGeom prst="rect">
            <a:avLst/>
          </a:prstGeom>
          <a:solidFill>
            <a:srgbClr val="8ad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637320" y="4362480"/>
            <a:ext cx="398520" cy="7920"/>
          </a:xfrm>
          <a:prstGeom prst="rect">
            <a:avLst/>
          </a:prstGeom>
          <a:solidFill>
            <a:srgbClr val="8fd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83440" y="4363920"/>
            <a:ext cx="398520" cy="6480"/>
          </a:xfrm>
          <a:prstGeom prst="rect">
            <a:avLst/>
          </a:prstGeom>
          <a:solidFill>
            <a:srgbClr val="93d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637320" y="4392720"/>
            <a:ext cx="398520" cy="15840"/>
          </a:xfrm>
          <a:prstGeom prst="rect">
            <a:avLst/>
          </a:prstGeom>
          <a:solidFill>
            <a:srgbClr val="95d0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83440" y="4394160"/>
            <a:ext cx="398520" cy="14400"/>
          </a:xfrm>
          <a:prstGeom prst="rect">
            <a:avLst/>
          </a:prstGeom>
          <a:solidFill>
            <a:srgbClr val="97c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37320" y="4430880"/>
            <a:ext cx="398520" cy="7920"/>
          </a:xfrm>
          <a:prstGeom prst="rect">
            <a:avLst/>
          </a:prstGeom>
          <a:solidFill>
            <a:srgbClr val="98cc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37320" y="4438800"/>
            <a:ext cx="398520" cy="6120"/>
          </a:xfrm>
          <a:prstGeom prst="rect">
            <a:avLst/>
          </a:prstGeom>
          <a:solidFill>
            <a:srgbClr val="98cc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83440" y="4438800"/>
            <a:ext cx="398520" cy="7920"/>
          </a:xfrm>
          <a:prstGeom prst="rect">
            <a:avLst/>
          </a:prstGeom>
          <a:solidFill>
            <a:srgbClr val="98cc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37320" y="4468680"/>
            <a:ext cx="398520" cy="14400"/>
          </a:xfrm>
          <a:prstGeom prst="rect">
            <a:avLst/>
          </a:prstGeom>
          <a:solidFill>
            <a:srgbClr val="97c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637320" y="4529160"/>
            <a:ext cx="398520" cy="6480"/>
          </a:xfrm>
          <a:prstGeom prst="rect">
            <a:avLst/>
          </a:prstGeom>
          <a:solidFill>
            <a:srgbClr val="8fd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37320" y="4549680"/>
            <a:ext cx="398520" cy="9720"/>
          </a:xfrm>
          <a:prstGeom prst="rect">
            <a:avLst/>
          </a:prstGeom>
          <a:solidFill>
            <a:srgbClr val="8ad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37320" y="4573440"/>
            <a:ext cx="398520" cy="6480"/>
          </a:xfrm>
          <a:prstGeom prst="rect">
            <a:avLst/>
          </a:prstGeom>
          <a:solidFill>
            <a:srgbClr val="83e5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37320" y="4641840"/>
            <a:ext cx="398520" cy="7920"/>
          </a:xfrm>
          <a:prstGeom prst="rect">
            <a:avLst/>
          </a:prstGeom>
          <a:solidFill>
            <a:srgbClr val="6ff7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37320" y="4664160"/>
            <a:ext cx="398520" cy="7920"/>
          </a:xfrm>
          <a:prstGeom prst="rect">
            <a:avLst/>
          </a:prstGeom>
          <a:solidFill>
            <a:srgbClr val="6bfb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637320" y="4686480"/>
            <a:ext cx="398520" cy="7920"/>
          </a:xfrm>
          <a:prstGeom prst="rect">
            <a:avLst/>
          </a:prstGeom>
          <a:solidFill>
            <a:srgbClr val="68f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83440" y="4686480"/>
            <a:ext cx="398520" cy="7920"/>
          </a:xfrm>
          <a:prstGeom prst="rect">
            <a:avLst/>
          </a:prstGeom>
          <a:solidFill>
            <a:srgbClr val="66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3392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afd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Ο Γαλάζιος Συμμετέχων  γίνεται Πλειοδότης και στο Τμήμα Ραδιοσυχνοτήτων Αii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55" name=""/>
          <p:cNvSpPr/>
          <p:nvPr/>
        </p:nvSpPr>
        <p:spPr>
          <a:xfrm>
            <a:off x="8902800" y="4241880"/>
            <a:ext cx="453960" cy="9360"/>
          </a:xfrm>
          <a:prstGeom prst="rect">
            <a:avLst/>
          </a:prstGeom>
          <a:solidFill>
            <a:srgbClr val="66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902800" y="4319640"/>
            <a:ext cx="453960" cy="7920"/>
          </a:xfrm>
          <a:prstGeom prst="rect">
            <a:avLst/>
          </a:prstGeom>
          <a:solidFill>
            <a:srgbClr val="6ff7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902800" y="4395960"/>
            <a:ext cx="453960" cy="9360"/>
          </a:xfrm>
          <a:prstGeom prst="rect">
            <a:avLst/>
          </a:prstGeom>
          <a:solidFill>
            <a:srgbClr val="83e5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902800" y="4475160"/>
            <a:ext cx="453960" cy="7920"/>
          </a:xfrm>
          <a:prstGeom prst="rect">
            <a:avLst/>
          </a:prstGeom>
          <a:solidFill>
            <a:srgbClr val="93d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902800" y="4525920"/>
            <a:ext cx="453960" cy="7920"/>
          </a:xfrm>
          <a:prstGeom prst="rect">
            <a:avLst/>
          </a:prstGeom>
          <a:solidFill>
            <a:srgbClr val="98cc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902800" y="4586400"/>
            <a:ext cx="453960" cy="7920"/>
          </a:xfrm>
          <a:prstGeom prst="rect">
            <a:avLst/>
          </a:prstGeom>
          <a:solidFill>
            <a:srgbClr val="96c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902800" y="4662360"/>
            <a:ext cx="453960" cy="7920"/>
          </a:xfrm>
          <a:prstGeom prst="rect">
            <a:avLst/>
          </a:prstGeom>
          <a:solidFill>
            <a:srgbClr val="8ad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902800" y="4740120"/>
            <a:ext cx="453960" cy="9720"/>
          </a:xfrm>
          <a:prstGeom prst="rect">
            <a:avLst/>
          </a:prstGeom>
          <a:solidFill>
            <a:srgbClr val="75f2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902800" y="4818240"/>
            <a:ext cx="453960" cy="7920"/>
          </a:xfrm>
          <a:prstGeom prst="rect">
            <a:avLst/>
          </a:prstGeom>
          <a:solidFill>
            <a:srgbClr val="68f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055080" y="3978360"/>
            <a:ext cx="453960" cy="7920"/>
          </a:xfrm>
          <a:prstGeom prst="rect">
            <a:avLst/>
          </a:prstGeom>
          <a:solidFill>
            <a:srgbClr val="68f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055080" y="4054320"/>
            <a:ext cx="453960" cy="9720"/>
          </a:xfrm>
          <a:prstGeom prst="rect">
            <a:avLst/>
          </a:prstGeom>
          <a:solidFill>
            <a:srgbClr val="75f2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055080" y="4132440"/>
            <a:ext cx="453960" cy="7920"/>
          </a:xfrm>
          <a:prstGeom prst="rect">
            <a:avLst/>
          </a:prstGeom>
          <a:solidFill>
            <a:srgbClr val="8ad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055080" y="4208400"/>
            <a:ext cx="453960" cy="9720"/>
          </a:xfrm>
          <a:prstGeom prst="rect">
            <a:avLst/>
          </a:prstGeom>
          <a:solidFill>
            <a:srgbClr val="96c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055080" y="4243320"/>
            <a:ext cx="453960" cy="9720"/>
          </a:xfrm>
          <a:prstGeom prst="rect">
            <a:avLst/>
          </a:prstGeom>
          <a:solidFill>
            <a:srgbClr val="98cc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055080" y="4321080"/>
            <a:ext cx="453960" cy="7920"/>
          </a:xfrm>
          <a:prstGeom prst="rect">
            <a:avLst/>
          </a:prstGeom>
          <a:solidFill>
            <a:srgbClr val="93d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055080" y="4398840"/>
            <a:ext cx="453960" cy="7920"/>
          </a:xfrm>
          <a:prstGeom prst="rect">
            <a:avLst/>
          </a:prstGeom>
          <a:solidFill>
            <a:srgbClr val="83e5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055080" y="4476600"/>
            <a:ext cx="453960" cy="7920"/>
          </a:xfrm>
          <a:prstGeom prst="rect">
            <a:avLst/>
          </a:prstGeom>
          <a:solidFill>
            <a:srgbClr val="6ff7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055080" y="4552920"/>
            <a:ext cx="453960" cy="7920"/>
          </a:xfrm>
          <a:prstGeom prst="rect">
            <a:avLst/>
          </a:prstGeom>
          <a:solidFill>
            <a:srgbClr val="66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3917880" cy="4606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38160" rIns="38160" tIns="38160" bIns="38160"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Τελευταίος Γύρος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275" name=""/>
          <p:cNvSpPr/>
          <p:nvPr/>
        </p:nvSpPr>
        <p:spPr>
          <a:xfrm>
            <a:off x="6637320" y="4183200"/>
            <a:ext cx="398520" cy="6120"/>
          </a:xfrm>
          <a:prstGeom prst="rect">
            <a:avLst/>
          </a:prstGeom>
          <a:solidFill>
            <a:srgbClr val="66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637320" y="4205160"/>
            <a:ext cx="398520" cy="6480"/>
          </a:xfrm>
          <a:prstGeom prst="rect">
            <a:avLst/>
          </a:prstGeom>
          <a:solidFill>
            <a:srgbClr val="68f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637320" y="4227480"/>
            <a:ext cx="398520" cy="7920"/>
          </a:xfrm>
          <a:prstGeom prst="rect">
            <a:avLst/>
          </a:prstGeom>
          <a:solidFill>
            <a:srgbClr val="6bfb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83440" y="4227480"/>
            <a:ext cx="398520" cy="7920"/>
          </a:xfrm>
          <a:prstGeom prst="rect">
            <a:avLst/>
          </a:prstGeom>
          <a:solidFill>
            <a:srgbClr val="6ff7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37320" y="4317840"/>
            <a:ext cx="398520" cy="7920"/>
          </a:xfrm>
          <a:prstGeom prst="rect">
            <a:avLst/>
          </a:prstGeom>
          <a:solidFill>
            <a:srgbClr val="83e5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37320" y="4340160"/>
            <a:ext cx="398520" cy="7920"/>
          </a:xfrm>
          <a:prstGeom prst="rect">
            <a:avLst/>
          </a:prstGeom>
          <a:solidFill>
            <a:srgbClr val="8ad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37320" y="4362480"/>
            <a:ext cx="398520" cy="7920"/>
          </a:xfrm>
          <a:prstGeom prst="rect">
            <a:avLst/>
          </a:prstGeom>
          <a:solidFill>
            <a:srgbClr val="8fd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83440" y="4363920"/>
            <a:ext cx="398520" cy="6480"/>
          </a:xfrm>
          <a:prstGeom prst="rect">
            <a:avLst/>
          </a:prstGeom>
          <a:solidFill>
            <a:srgbClr val="93d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37320" y="4392720"/>
            <a:ext cx="398520" cy="15840"/>
          </a:xfrm>
          <a:prstGeom prst="rect">
            <a:avLst/>
          </a:prstGeom>
          <a:solidFill>
            <a:srgbClr val="95d0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83440" y="4394160"/>
            <a:ext cx="398520" cy="14400"/>
          </a:xfrm>
          <a:prstGeom prst="rect">
            <a:avLst/>
          </a:prstGeom>
          <a:solidFill>
            <a:srgbClr val="97c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37320" y="4430880"/>
            <a:ext cx="398520" cy="7920"/>
          </a:xfrm>
          <a:prstGeom prst="rect">
            <a:avLst/>
          </a:prstGeom>
          <a:solidFill>
            <a:srgbClr val="98cc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37320" y="4438800"/>
            <a:ext cx="398520" cy="6120"/>
          </a:xfrm>
          <a:prstGeom prst="rect">
            <a:avLst/>
          </a:prstGeom>
          <a:solidFill>
            <a:srgbClr val="98cc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83440" y="4438800"/>
            <a:ext cx="398520" cy="7920"/>
          </a:xfrm>
          <a:prstGeom prst="rect">
            <a:avLst/>
          </a:prstGeom>
          <a:solidFill>
            <a:srgbClr val="98cc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37320" y="4468680"/>
            <a:ext cx="398520" cy="14400"/>
          </a:xfrm>
          <a:prstGeom prst="rect">
            <a:avLst/>
          </a:prstGeom>
          <a:solidFill>
            <a:srgbClr val="97c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37320" y="4529160"/>
            <a:ext cx="398520" cy="6480"/>
          </a:xfrm>
          <a:prstGeom prst="rect">
            <a:avLst/>
          </a:prstGeom>
          <a:solidFill>
            <a:srgbClr val="8fd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637320" y="4549680"/>
            <a:ext cx="398520" cy="9720"/>
          </a:xfrm>
          <a:prstGeom prst="rect">
            <a:avLst/>
          </a:prstGeom>
          <a:solidFill>
            <a:srgbClr val="8ad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37320" y="4573440"/>
            <a:ext cx="398520" cy="6480"/>
          </a:xfrm>
          <a:prstGeom prst="rect">
            <a:avLst/>
          </a:prstGeom>
          <a:solidFill>
            <a:srgbClr val="83e5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37320" y="4641840"/>
            <a:ext cx="398520" cy="7920"/>
          </a:xfrm>
          <a:prstGeom prst="rect">
            <a:avLst/>
          </a:prstGeom>
          <a:solidFill>
            <a:srgbClr val="6ff7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637320" y="4664160"/>
            <a:ext cx="398520" cy="7920"/>
          </a:xfrm>
          <a:prstGeom prst="rect">
            <a:avLst/>
          </a:prstGeom>
          <a:solidFill>
            <a:srgbClr val="6bfb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37320" y="4686480"/>
            <a:ext cx="398520" cy="7920"/>
          </a:xfrm>
          <a:prstGeom prst="rect">
            <a:avLst/>
          </a:prstGeom>
          <a:solidFill>
            <a:srgbClr val="68f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283440" y="4686480"/>
            <a:ext cx="398520" cy="7920"/>
          </a:xfrm>
          <a:prstGeom prst="rect">
            <a:avLst/>
          </a:prstGeom>
          <a:solidFill>
            <a:srgbClr val="66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3392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afd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Μετά το τέλος του Γύρου όλοι οι Ενεργοί Συμμετέχοντες είναι και οι Πλειοδότες και δεν έχει υποβληθεί νέα Προσφορά. Επομένως αυτός αποτελεί και τον Τελευταίο Γύρο της Δημοπρασίας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afd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Οι Πλειοδότες κατά τον Τελευταίο Γύρο είναι οι Υπερθεματιστές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97" name=""/>
          <p:cNvSpPr/>
          <p:nvPr/>
        </p:nvSpPr>
        <p:spPr>
          <a:xfrm>
            <a:off x="8902800" y="4241880"/>
            <a:ext cx="453960" cy="9360"/>
          </a:xfrm>
          <a:prstGeom prst="rect">
            <a:avLst/>
          </a:prstGeom>
          <a:solidFill>
            <a:srgbClr val="66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902800" y="4319640"/>
            <a:ext cx="453960" cy="7920"/>
          </a:xfrm>
          <a:prstGeom prst="rect">
            <a:avLst/>
          </a:prstGeom>
          <a:solidFill>
            <a:srgbClr val="6ff7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902800" y="4395960"/>
            <a:ext cx="453960" cy="9360"/>
          </a:xfrm>
          <a:prstGeom prst="rect">
            <a:avLst/>
          </a:prstGeom>
          <a:solidFill>
            <a:srgbClr val="83e5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902800" y="4475160"/>
            <a:ext cx="453960" cy="7920"/>
          </a:xfrm>
          <a:prstGeom prst="rect">
            <a:avLst/>
          </a:prstGeom>
          <a:solidFill>
            <a:srgbClr val="93d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902800" y="4525920"/>
            <a:ext cx="453960" cy="7920"/>
          </a:xfrm>
          <a:prstGeom prst="rect">
            <a:avLst/>
          </a:prstGeom>
          <a:solidFill>
            <a:srgbClr val="98cc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902800" y="4586400"/>
            <a:ext cx="453960" cy="7920"/>
          </a:xfrm>
          <a:prstGeom prst="rect">
            <a:avLst/>
          </a:prstGeom>
          <a:solidFill>
            <a:srgbClr val="96c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902800" y="4662360"/>
            <a:ext cx="453960" cy="7920"/>
          </a:xfrm>
          <a:prstGeom prst="rect">
            <a:avLst/>
          </a:prstGeom>
          <a:solidFill>
            <a:srgbClr val="8ad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902800" y="4740120"/>
            <a:ext cx="453960" cy="9720"/>
          </a:xfrm>
          <a:prstGeom prst="rect">
            <a:avLst/>
          </a:prstGeom>
          <a:solidFill>
            <a:srgbClr val="75f2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902800" y="4818240"/>
            <a:ext cx="453960" cy="7920"/>
          </a:xfrm>
          <a:prstGeom prst="rect">
            <a:avLst/>
          </a:prstGeom>
          <a:solidFill>
            <a:srgbClr val="68f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993160" y="4414680"/>
            <a:ext cx="415800" cy="7920"/>
          </a:xfrm>
          <a:prstGeom prst="rect">
            <a:avLst/>
          </a:prstGeom>
          <a:solidFill>
            <a:srgbClr val="68f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993160" y="4437000"/>
            <a:ext cx="415800" cy="9720"/>
          </a:xfrm>
          <a:prstGeom prst="rect">
            <a:avLst/>
          </a:prstGeom>
          <a:solidFill>
            <a:srgbClr val="6bfb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993160" y="4510080"/>
            <a:ext cx="415800" cy="6480"/>
          </a:xfrm>
          <a:prstGeom prst="rect">
            <a:avLst/>
          </a:prstGeom>
          <a:solidFill>
            <a:srgbClr val="7ce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993160" y="4532400"/>
            <a:ext cx="415800" cy="7920"/>
          </a:xfrm>
          <a:prstGeom prst="rect">
            <a:avLst/>
          </a:prstGeom>
          <a:solidFill>
            <a:srgbClr val="83e5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993160" y="4564080"/>
            <a:ext cx="415800" cy="15840"/>
          </a:xfrm>
          <a:prstGeom prst="rect">
            <a:avLst/>
          </a:prstGeom>
          <a:solidFill>
            <a:srgbClr val="8dda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993160" y="4603680"/>
            <a:ext cx="415800" cy="7920"/>
          </a:xfrm>
          <a:prstGeom prst="rect">
            <a:avLst/>
          </a:prstGeom>
          <a:solidFill>
            <a:srgbClr val="93d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993160" y="4626000"/>
            <a:ext cx="415800" cy="9360"/>
          </a:xfrm>
          <a:prstGeom prst="rect">
            <a:avLst/>
          </a:prstGeom>
          <a:solidFill>
            <a:srgbClr val="96c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993160" y="4681440"/>
            <a:ext cx="415800" cy="7920"/>
          </a:xfrm>
          <a:prstGeom prst="rect">
            <a:avLst/>
          </a:prstGeom>
          <a:solidFill>
            <a:srgbClr val="98cc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993160" y="4705200"/>
            <a:ext cx="415800" cy="7920"/>
          </a:xfrm>
          <a:prstGeom prst="rect">
            <a:avLst/>
          </a:prstGeom>
          <a:solidFill>
            <a:srgbClr val="96c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993160" y="4776840"/>
            <a:ext cx="415800" cy="6120"/>
          </a:xfrm>
          <a:prstGeom prst="rect">
            <a:avLst/>
          </a:prstGeom>
          <a:solidFill>
            <a:srgbClr val="8ad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993160" y="4800600"/>
            <a:ext cx="415800" cy="6480"/>
          </a:xfrm>
          <a:prstGeom prst="rect">
            <a:avLst/>
          </a:prstGeom>
          <a:solidFill>
            <a:srgbClr val="83e5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993160" y="4871880"/>
            <a:ext cx="415800" cy="7920"/>
          </a:xfrm>
          <a:prstGeom prst="rect">
            <a:avLst/>
          </a:prstGeom>
          <a:solidFill>
            <a:srgbClr val="6ff7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993160" y="4894200"/>
            <a:ext cx="415800" cy="9720"/>
          </a:xfrm>
          <a:prstGeom prst="rect">
            <a:avLst/>
          </a:prstGeom>
          <a:solidFill>
            <a:srgbClr val="6bfb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993160" y="4925880"/>
            <a:ext cx="415800" cy="15840"/>
          </a:xfrm>
          <a:prstGeom prst="rect">
            <a:avLst/>
          </a:prstGeom>
          <a:solidFill>
            <a:srgbClr val="66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5638680" y="1447920"/>
            <a:ext cx="3591000" cy="4822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38160" rIns="38160" tIns="38160" bIns="38160"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Διαδικασίες μετά τον Τελευταίο Γύρο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322" name=""/>
          <p:cNvSpPr/>
          <p:nvPr/>
        </p:nvSpPr>
        <p:spPr>
          <a:xfrm>
            <a:off x="6637320" y="4183200"/>
            <a:ext cx="398520" cy="6120"/>
          </a:xfrm>
          <a:prstGeom prst="rect">
            <a:avLst/>
          </a:prstGeom>
          <a:solidFill>
            <a:srgbClr val="66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637320" y="4205160"/>
            <a:ext cx="398520" cy="6480"/>
          </a:xfrm>
          <a:prstGeom prst="rect">
            <a:avLst/>
          </a:prstGeom>
          <a:solidFill>
            <a:srgbClr val="68f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637320" y="4227480"/>
            <a:ext cx="398520" cy="7920"/>
          </a:xfrm>
          <a:prstGeom prst="rect">
            <a:avLst/>
          </a:prstGeom>
          <a:solidFill>
            <a:srgbClr val="6bfb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83440" y="4227480"/>
            <a:ext cx="398520" cy="7920"/>
          </a:xfrm>
          <a:prstGeom prst="rect">
            <a:avLst/>
          </a:prstGeom>
          <a:solidFill>
            <a:srgbClr val="6ff7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37320" y="4317840"/>
            <a:ext cx="398520" cy="7920"/>
          </a:xfrm>
          <a:prstGeom prst="rect">
            <a:avLst/>
          </a:prstGeom>
          <a:solidFill>
            <a:srgbClr val="83e5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637320" y="4340160"/>
            <a:ext cx="398520" cy="7920"/>
          </a:xfrm>
          <a:prstGeom prst="rect">
            <a:avLst/>
          </a:prstGeom>
          <a:solidFill>
            <a:srgbClr val="8ad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637320" y="4362480"/>
            <a:ext cx="398520" cy="7920"/>
          </a:xfrm>
          <a:prstGeom prst="rect">
            <a:avLst/>
          </a:prstGeom>
          <a:solidFill>
            <a:srgbClr val="8fd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83440" y="4363920"/>
            <a:ext cx="398520" cy="6480"/>
          </a:xfrm>
          <a:prstGeom prst="rect">
            <a:avLst/>
          </a:prstGeom>
          <a:solidFill>
            <a:srgbClr val="93d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637320" y="4392720"/>
            <a:ext cx="398520" cy="15840"/>
          </a:xfrm>
          <a:prstGeom prst="rect">
            <a:avLst/>
          </a:prstGeom>
          <a:solidFill>
            <a:srgbClr val="95d0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283440" y="4394160"/>
            <a:ext cx="398520" cy="14400"/>
          </a:xfrm>
          <a:prstGeom prst="rect">
            <a:avLst/>
          </a:prstGeom>
          <a:solidFill>
            <a:srgbClr val="97c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637320" y="4430880"/>
            <a:ext cx="398520" cy="7920"/>
          </a:xfrm>
          <a:prstGeom prst="rect">
            <a:avLst/>
          </a:prstGeom>
          <a:solidFill>
            <a:srgbClr val="98cc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37320" y="4438800"/>
            <a:ext cx="398520" cy="6120"/>
          </a:xfrm>
          <a:prstGeom prst="rect">
            <a:avLst/>
          </a:prstGeom>
          <a:solidFill>
            <a:srgbClr val="98cc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283440" y="4438800"/>
            <a:ext cx="398520" cy="7920"/>
          </a:xfrm>
          <a:prstGeom prst="rect">
            <a:avLst/>
          </a:prstGeom>
          <a:solidFill>
            <a:srgbClr val="98cc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37320" y="4468680"/>
            <a:ext cx="398520" cy="14400"/>
          </a:xfrm>
          <a:prstGeom prst="rect">
            <a:avLst/>
          </a:prstGeom>
          <a:solidFill>
            <a:srgbClr val="97c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637320" y="4529160"/>
            <a:ext cx="398520" cy="6480"/>
          </a:xfrm>
          <a:prstGeom prst="rect">
            <a:avLst/>
          </a:prstGeom>
          <a:solidFill>
            <a:srgbClr val="8fd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37320" y="4549680"/>
            <a:ext cx="398520" cy="9720"/>
          </a:xfrm>
          <a:prstGeom prst="rect">
            <a:avLst/>
          </a:prstGeom>
          <a:solidFill>
            <a:srgbClr val="8ad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7320" y="4573440"/>
            <a:ext cx="398520" cy="6480"/>
          </a:xfrm>
          <a:prstGeom prst="rect">
            <a:avLst/>
          </a:prstGeom>
          <a:solidFill>
            <a:srgbClr val="83e5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637320" y="4641840"/>
            <a:ext cx="398520" cy="7920"/>
          </a:xfrm>
          <a:prstGeom prst="rect">
            <a:avLst/>
          </a:prstGeom>
          <a:solidFill>
            <a:srgbClr val="6ff7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637320" y="4664160"/>
            <a:ext cx="398520" cy="7920"/>
          </a:xfrm>
          <a:prstGeom prst="rect">
            <a:avLst/>
          </a:prstGeom>
          <a:solidFill>
            <a:srgbClr val="6bfb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637320" y="4686480"/>
            <a:ext cx="398520" cy="7920"/>
          </a:xfrm>
          <a:prstGeom prst="rect">
            <a:avLst/>
          </a:prstGeom>
          <a:solidFill>
            <a:srgbClr val="68f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283440" y="4686480"/>
            <a:ext cx="398520" cy="7920"/>
          </a:xfrm>
          <a:prstGeom prst="rect">
            <a:avLst/>
          </a:prstGeom>
          <a:solidFill>
            <a:srgbClr val="66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902800" y="4241880"/>
            <a:ext cx="453960" cy="9360"/>
          </a:xfrm>
          <a:prstGeom prst="rect">
            <a:avLst/>
          </a:prstGeom>
          <a:solidFill>
            <a:srgbClr val="66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902800" y="4319640"/>
            <a:ext cx="453960" cy="7920"/>
          </a:xfrm>
          <a:prstGeom prst="rect">
            <a:avLst/>
          </a:prstGeom>
          <a:solidFill>
            <a:srgbClr val="6ff7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902800" y="4395960"/>
            <a:ext cx="453960" cy="9360"/>
          </a:xfrm>
          <a:prstGeom prst="rect">
            <a:avLst/>
          </a:prstGeom>
          <a:solidFill>
            <a:srgbClr val="83e5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902800" y="4475160"/>
            <a:ext cx="453960" cy="7920"/>
          </a:xfrm>
          <a:prstGeom prst="rect">
            <a:avLst/>
          </a:prstGeom>
          <a:solidFill>
            <a:srgbClr val="93d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902800" y="4525920"/>
            <a:ext cx="453960" cy="7920"/>
          </a:xfrm>
          <a:prstGeom prst="rect">
            <a:avLst/>
          </a:prstGeom>
          <a:solidFill>
            <a:srgbClr val="98cc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902800" y="4586400"/>
            <a:ext cx="453960" cy="7920"/>
          </a:xfrm>
          <a:prstGeom prst="rect">
            <a:avLst/>
          </a:prstGeom>
          <a:solidFill>
            <a:srgbClr val="96c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902800" y="4662360"/>
            <a:ext cx="453960" cy="7920"/>
          </a:xfrm>
          <a:prstGeom prst="rect">
            <a:avLst/>
          </a:prstGeom>
          <a:solidFill>
            <a:srgbClr val="8ad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902800" y="4740120"/>
            <a:ext cx="453960" cy="9720"/>
          </a:xfrm>
          <a:prstGeom prst="rect">
            <a:avLst/>
          </a:prstGeom>
          <a:solidFill>
            <a:srgbClr val="75f2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902800" y="4818240"/>
            <a:ext cx="453960" cy="7920"/>
          </a:xfrm>
          <a:prstGeom prst="rect">
            <a:avLst/>
          </a:prstGeom>
          <a:solidFill>
            <a:srgbClr val="68f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993160" y="4414680"/>
            <a:ext cx="415800" cy="7920"/>
          </a:xfrm>
          <a:prstGeom prst="rect">
            <a:avLst/>
          </a:prstGeom>
          <a:solidFill>
            <a:srgbClr val="68f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993160" y="4437000"/>
            <a:ext cx="415800" cy="9720"/>
          </a:xfrm>
          <a:prstGeom prst="rect">
            <a:avLst/>
          </a:prstGeom>
          <a:solidFill>
            <a:srgbClr val="6bfb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993160" y="4510080"/>
            <a:ext cx="415800" cy="6480"/>
          </a:xfrm>
          <a:prstGeom prst="rect">
            <a:avLst/>
          </a:prstGeom>
          <a:solidFill>
            <a:srgbClr val="7ce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993160" y="4532400"/>
            <a:ext cx="415800" cy="7920"/>
          </a:xfrm>
          <a:prstGeom prst="rect">
            <a:avLst/>
          </a:prstGeom>
          <a:solidFill>
            <a:srgbClr val="83e5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993160" y="4564080"/>
            <a:ext cx="415800" cy="15840"/>
          </a:xfrm>
          <a:prstGeom prst="rect">
            <a:avLst/>
          </a:prstGeom>
          <a:solidFill>
            <a:srgbClr val="8dda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993160" y="4603680"/>
            <a:ext cx="415800" cy="7920"/>
          </a:xfrm>
          <a:prstGeom prst="rect">
            <a:avLst/>
          </a:prstGeom>
          <a:solidFill>
            <a:srgbClr val="93d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993160" y="4626000"/>
            <a:ext cx="415800" cy="9360"/>
          </a:xfrm>
          <a:prstGeom prst="rect">
            <a:avLst/>
          </a:prstGeom>
          <a:solidFill>
            <a:srgbClr val="96c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993160" y="4681440"/>
            <a:ext cx="415800" cy="7920"/>
          </a:xfrm>
          <a:prstGeom prst="rect">
            <a:avLst/>
          </a:prstGeom>
          <a:solidFill>
            <a:srgbClr val="98cc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993160" y="4705200"/>
            <a:ext cx="415800" cy="7920"/>
          </a:xfrm>
          <a:prstGeom prst="rect">
            <a:avLst/>
          </a:prstGeom>
          <a:solidFill>
            <a:srgbClr val="96c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993160" y="4776840"/>
            <a:ext cx="415800" cy="6120"/>
          </a:xfrm>
          <a:prstGeom prst="rect">
            <a:avLst/>
          </a:prstGeom>
          <a:solidFill>
            <a:srgbClr val="8ad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993160" y="4800600"/>
            <a:ext cx="415800" cy="6480"/>
          </a:xfrm>
          <a:prstGeom prst="rect">
            <a:avLst/>
          </a:prstGeom>
          <a:solidFill>
            <a:srgbClr val="83e5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993160" y="4871880"/>
            <a:ext cx="415800" cy="7920"/>
          </a:xfrm>
          <a:prstGeom prst="rect">
            <a:avLst/>
          </a:prstGeom>
          <a:solidFill>
            <a:srgbClr val="6ff7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993160" y="4894200"/>
            <a:ext cx="415800" cy="9720"/>
          </a:xfrm>
          <a:prstGeom prst="rect">
            <a:avLst/>
          </a:prstGeom>
          <a:solidFill>
            <a:srgbClr val="6bfb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993160" y="4925880"/>
            <a:ext cx="415800" cy="15840"/>
          </a:xfrm>
          <a:prstGeom prst="rect">
            <a:avLst/>
          </a:prstGeom>
          <a:solidFill>
            <a:srgbClr val="66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afd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Μετά τη λήξη του Τελευταίου Γύρου της Δημοπρασίας, ανακοινώνονται σε όλους τους Συμμετέχοντες στη Δημοπρασία, οι Υπερθεματιστές για κάθε Τμήμα Ραδιοσυχνοτήτων.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afd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Μέσα σε δύο (2) ημέρες από την ανακοίνωση των Υπερθεματιστών, η ΕΕΤΤ αποστέλλει σε όλους τους Συμμετέχοντες στη Δημοπρασία και δημοσιεύει ανακοίνωση κατακύρωσης  Τμήματος Ραδιοσυχνοτήτων στην οποία θα αναφέρονται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α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Τα Τμήματα Ραδιοσυχνοτήτων  τα οποία έχουν κατακυρωθεί σε κάθε ένα από τους Υπερθεματιστές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β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Το Εκπλειστηρίασμα που αντιστοιχεί στο κάθε Τμήμα Ραδιοσυχνοτήτων  και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γ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Την ταυτότητα του αντίστοιχου Υπερθεματιστή.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8228160" cy="42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808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ΠΡΟΣΟΧΗ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Σε περίπτωση οποιασδήποτε διαφοράς ανάμεσα στο παρόν και τα Τεύχη Προκήρυξης υπερτερούν τα Τεύχη Προκήρυξης 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38160" rIns="38160" tIns="38160" bIns="38160"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Περιεχόμενα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81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afd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Χρησιμοποιούμενοι όροι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afd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Βασικές Υποθέσεις του Διαγραμματικού Σεναρίου Εξέλιξης της Δημοπρασίας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afd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Πιθανές Ενέργειες Συμμετεχόντων ανά Γύρο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afd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Αποτελέσματα και επεξήγηση των επιλογών για τον επόμενο γύρο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afd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Πέρας διαδικασίας Δημοπρασίας και Ανακήρυξη των Υπερθεματιστών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0">
              <a:lnSpc>
                <a:spcPct val="60000"/>
              </a:lnSpc>
              <a:spcBef>
                <a:spcPts val="2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38160" rIns="38160" tIns="38160" bIns="38160"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Χρησιμοποιούμενοι όροι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227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80880" indent="-380880" algn="just">
              <a:lnSpc>
                <a:spcPct val="100000"/>
              </a:lnSpc>
              <a:spcBef>
                <a:spcPts val="2500"/>
              </a:spcBef>
              <a:buClr>
                <a:srgbClr val="f6bf69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6bf6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6bf69"/>
                </a:solidFill>
                <a:latin typeface="Arial"/>
              </a:rPr>
              <a:t>Αδρανής Συμμετέχων”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Είναι ο Πλειοδότης ο οποίος σύμφωνα με τους όρους του Τεύχους Προκήρυξης σε συγκεκριμένο Γύρο δεν υποβάλλει φάκελο Προσφοράς.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5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 algn="just">
              <a:lnSpc>
                <a:spcPct val="100000"/>
              </a:lnSpc>
              <a:spcBef>
                <a:spcPts val="2500"/>
              </a:spcBef>
              <a:buClr>
                <a:srgbClr val="f6bf69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6bf6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6bf69"/>
                </a:solidFill>
                <a:latin typeface="Arial"/>
              </a:rPr>
              <a:t>Γύρος Δημοπρασίας”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Εννοείται ο κάθε γύρος της Δημοπρασίας που αρχίζει  την ώρα που καθορίζεται από την ΕΕΤΤ κάθε φορά και περατώνεται με την ανακοίνωση των Προσφορών των Συμμετεχόντων.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5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 algn="just">
              <a:lnSpc>
                <a:spcPct val="100000"/>
              </a:lnSpc>
              <a:spcBef>
                <a:spcPts val="1800"/>
              </a:spcBef>
              <a:buClr>
                <a:srgbClr val="f6bf69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6bf6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6bf69"/>
                </a:solidFill>
                <a:latin typeface="Arial"/>
              </a:rPr>
              <a:t>Δικαίωμα Προσωρινής Αποχής”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Ορίζεται ως η δυνατότητα που δίνεται στους Συμμετέχοντες στη Δημοπρασία να μην υποβάλλουν Προσφορά σε ορισμένο Γύρο της Δημοπρασίας παρότι δεν είναι Πλειοδότες. Το δικαίωμα αυτό μπορεί να εξασκηθεί μέχρι τέσσερις (4) φορές. Ο αριθμός αυτός μπορεί να μειωθεί εάν κατά την διάρκεια της Δημοπρασίας ο Συμμετέχων υποπέσει σε  παράβαση και του επιβληθεί η μείωση αυτή ως Κύρωση.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38160" rIns="38160" tIns="38160" bIns="38160"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Χρησιμοποιούμενοι όροι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8228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80880" indent="-380880" algn="just">
              <a:lnSpc>
                <a:spcPct val="90000"/>
              </a:lnSpc>
              <a:spcBef>
                <a:spcPts val="1800"/>
              </a:spcBef>
              <a:buClr>
                <a:srgbClr val="f6bf69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l-GR" sz="1800" spc="-1" strike="noStrike">
                <a:solidFill>
                  <a:srgbClr val="f6bf69"/>
                </a:solidFill>
                <a:latin typeface="Arial"/>
              </a:rPr>
              <a:t>“</a:t>
            </a:r>
            <a:r>
              <a:rPr b="1" lang="el-GR" sz="1800" spc="-1" strike="noStrike">
                <a:solidFill>
                  <a:srgbClr val="f6bf69"/>
                </a:solidFill>
                <a:latin typeface="Arial"/>
              </a:rPr>
              <a:t>Εκπλειστηρίασμα”. 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Eίναι η μέγιστη Προσφορά κατά τον Τελευταίο Γύρο για κάθε Τμήμα Ραδιοσυχνοτήτων και δύναται να αποτελεί το συνολικό ποσό ή μέρος αυτού που πρέπει να καταβληθεί για την χορήγηση της αντίστοιχης ειδικής Άδειας Σταθερής Ασύρματης Πρόσβασης.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 algn="just">
              <a:lnSpc>
                <a:spcPct val="90000"/>
              </a:lnSpc>
              <a:spcBef>
                <a:spcPts val="1800"/>
              </a:spcBef>
              <a:buClr>
                <a:srgbClr val="f6bf69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l-GR" sz="1800" spc="-1" strike="noStrike">
                <a:solidFill>
                  <a:srgbClr val="f6bf69"/>
                </a:solidFill>
                <a:latin typeface="Arial"/>
              </a:rPr>
              <a:t>“</a:t>
            </a:r>
            <a:r>
              <a:rPr b="1" lang="el-GR" sz="1800" spc="-1" strike="noStrike">
                <a:solidFill>
                  <a:srgbClr val="f6bf69"/>
                </a:solidFill>
                <a:latin typeface="Arial"/>
              </a:rPr>
              <a:t>Ενεργός Συμμετέχων”. 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Ένας  Συμμετέχων στη Δημοπρασία θεωρείται ενεργός μετά την ολοκλήρωση ενός Γύρου όταν είτε :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lvl="2" marL="1351080" indent="-270000" algn="just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είχε δώσει την υψηλότερη Προσφορά για ένα Τμήμα Ραδιοσυχνοτήτων σε οποιαδήποτε από τις δύο Φασματικές Περιοχές (ήταν δηλαδή ο Πλειοδότης στον προηγούμενο από τους Γύρους που μόλις ολοκληρώθηκε), είτε</a:t>
            </a:r>
            <a:endParaRPr b="0" i="1" lang="en-US" sz="1800" spc="-1" strike="noStrike">
              <a:solidFill>
                <a:srgbClr val="ffffff"/>
              </a:solidFill>
              <a:latin typeface="Univers 55"/>
            </a:endParaRPr>
          </a:p>
          <a:p>
            <a:pPr lvl="2" marL="1351080" indent="-270000" algn="just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)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έχει κάνει μια αποδεκτή Προσφορά για ένα Τμήμα Ραδιοσυχνοτήτων σε οποιαδήποτε από τις δύο Φασματικές Περιοχές στο Γύρο που μόλις ολοκληρώθηκε, είτε</a:t>
            </a:r>
            <a:endParaRPr b="0" i="1" lang="en-US" sz="1800" spc="-1" strike="noStrike">
              <a:solidFill>
                <a:srgbClr val="ffffff"/>
              </a:solidFill>
              <a:latin typeface="Univers 55"/>
            </a:endParaRPr>
          </a:p>
          <a:p>
            <a:pPr lvl="2" marL="1351080" indent="-270000" algn="just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i)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έχει εξασκήσει ένα από τα 4 Δικαιώματα Προσωρινής Αποχής στο Γύρο που μόλις ολοκληρώθηκε.</a:t>
            </a:r>
            <a:endParaRPr b="0" i="1" lang="en-US" sz="1800" spc="-1" strike="noStrike">
              <a:solidFill>
                <a:srgbClr val="ffffff"/>
              </a:solidFill>
              <a:latin typeface="Univers 55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38160" rIns="38160" tIns="38160" bIns="38160"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Χρησιμοποιούμενοι όροι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8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80880" indent="-380880" algn="just">
              <a:lnSpc>
                <a:spcPct val="100000"/>
              </a:lnSpc>
              <a:spcBef>
                <a:spcPts val="1800"/>
              </a:spcBef>
              <a:buClr>
                <a:srgbClr val="f6bf69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6bf6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6bf69"/>
                </a:solidFill>
                <a:latin typeface="Arial"/>
              </a:rPr>
              <a:t>Ισοπαλία”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Αναφέρεται στη υποβολή ισόποσης Προσφοράς σε ένα συγκεκριμένο Γύρο Δημοπρασίας για το ίδιο Τμήμα Ραδιοσυχνοτήτων από δύο ή περισσότερους Συμμετέχοντες.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 algn="just">
              <a:lnSpc>
                <a:spcPct val="100000"/>
              </a:lnSpc>
              <a:spcBef>
                <a:spcPts val="1800"/>
              </a:spcBef>
              <a:buClr>
                <a:srgbClr val="f6bf69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6bf6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6bf69"/>
                </a:solidFill>
                <a:latin typeface="Arial"/>
              </a:rPr>
              <a:t>Επίλυση Ισοπαλίας”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Αναφέρεται στην μέθοδο επίλυσης της Ισοπαλίας ώστε για τους σκοπούς της εξέλιξης της Δημοπρασίας ένας εκ των ισόπαλων Συμμετεχόντων να θεωρηθεί Πλειοδότης για τον συγκεκριμένο Γύρο που έλαβε χώρα η Ισοπαλία και να μην υποχρεούται σε υποβολή νέας Προσφοράς στον επόμενο Γύρο. Η επιλεγείσα μέθοδος βασίζεται στην τύχη και περιγράφεται στο Άρθρο 5.2.22 του Τεύχους Προκήρυξης.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38160" rIns="38160" tIns="38160" bIns="38160"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Χρησιμοποιούμενοι όροι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228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80880" indent="-380880" algn="just">
              <a:lnSpc>
                <a:spcPct val="100000"/>
              </a:lnSpc>
              <a:spcBef>
                <a:spcPts val="1800"/>
              </a:spcBef>
              <a:buClr>
                <a:srgbClr val="f6bf69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6bf6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6bf69"/>
                </a:solidFill>
                <a:latin typeface="Arial"/>
              </a:rPr>
              <a:t>Πλειοδότης”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Είναι εκείνος από τους Συμμετέχοντες στη Δημοπρασία που έχει δώσει την Τρέχουσα Τιμή για συγκεκριμένο Τμήμα Ραδιοσυχνοτήτων σε συγκεκριμένο Γύρο της Δημοπρασίας. 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 algn="just">
              <a:lnSpc>
                <a:spcPct val="100000"/>
              </a:lnSpc>
              <a:spcBef>
                <a:spcPts val="1800"/>
              </a:spcBef>
              <a:buClr>
                <a:srgbClr val="f6bf69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6bf6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6bf69"/>
                </a:solidFill>
                <a:latin typeface="Arial"/>
              </a:rPr>
              <a:t>Προσφορά”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Είναι η τιμή στην οποία δηλώνει ο κάθε Συμμετέχων στη Δημοπρασία, ότι επιθυμεί την κατακύρωση σε αυτόν συγκεκριμένου Τμήματος Ραδιοσυχνοτήτων. 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 algn="just">
              <a:lnSpc>
                <a:spcPct val="100000"/>
              </a:lnSpc>
              <a:spcBef>
                <a:spcPts val="2500"/>
              </a:spcBef>
              <a:buClr>
                <a:srgbClr val="f6bf69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6bf6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6bf69"/>
                </a:solidFill>
                <a:latin typeface="Arial"/>
              </a:rPr>
              <a:t>Πρώτος Γύρος”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Είναι ο Γύρος με τον οποίο ξεκινά η διαδικασία υποβολής Προσφορών και για τον οποίο η ελάχιστη δυνατή Προσφορά είναι η Τιμή Εκκίνησης για κάθε Τμήμα Ραδιοσυχνοτήτων.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5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 algn="just">
              <a:lnSpc>
                <a:spcPct val="100000"/>
              </a:lnSpc>
              <a:spcBef>
                <a:spcPts val="1800"/>
              </a:spcBef>
              <a:buClr>
                <a:srgbClr val="f6bf69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6bf6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6bf69"/>
                </a:solidFill>
                <a:latin typeface="Arial"/>
              </a:rPr>
              <a:t>Τελευταίος Γύρος”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Είναι ο Γύρος εκείνος μετά το τέλος του οποίου όλοι οι Ενεργοί Συμμετέχοντες είναι και οι Πλειοδότες και δεν έχει υποβληθεί νέα Προσφορά.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38160" rIns="38160" tIns="38160" bIns="38160"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Χρησιμοποιούμενοι όροι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8228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80880" indent="-380880" algn="just">
              <a:lnSpc>
                <a:spcPct val="100000"/>
              </a:lnSpc>
              <a:spcBef>
                <a:spcPts val="1800"/>
              </a:spcBef>
              <a:buClr>
                <a:srgbClr val="f6bf69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6bf6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6bf69"/>
                </a:solidFill>
                <a:latin typeface="Arial"/>
              </a:rPr>
              <a:t>Τρέχουσα Τιμή”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Είναι η μέγιστη Προσφορά για κάθε Τμήμα Ραδιοσυχνοτήτων σε κάθε Γύρο Δημοπρασίας στον οποίο έχουν υποβληθεί έγκυρα Προσφορές. Για τον Πρώτο Γύρο Τρέχουσα Τιμή θεωρείται η Τιμή Εκκίνησης για κάθε Τμήμα Ραδιοσυχνοτήτων.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 algn="just">
              <a:lnSpc>
                <a:spcPct val="100000"/>
              </a:lnSpc>
              <a:spcBef>
                <a:spcPts val="2200"/>
              </a:spcBef>
              <a:buClr>
                <a:srgbClr val="f6bf69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6bf6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6bf69"/>
                </a:solidFill>
                <a:latin typeface="Arial"/>
              </a:rPr>
              <a:t>Υπερθεματιστής”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Είναι εκείνος από τους Συμμετέχοντες στη Δημοπρασία που έχει υποβάλει την Τρέχουσα Τιμή για συγκεκριμένο Τμήμα Ραδιοσυχνοτήτων κατά τον Τελευταίο Γύρο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82296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38160" rIns="38160" tIns="38160" bIns="38160"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Βασικές Υποθέσεις Διαγραμματικού Σεναρίου Εξέλιξης της Δημοπρασίας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2057400"/>
            <a:ext cx="82278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afd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Για το παράδειγμα και μόνο έχουμε υποθέσει 4 Τμήματα Ραδιοσυχνοτήτων (δύο σε κάθε μια Φασματική Περιοχή) που αναπαρίστανται με τα σύμβολα 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, 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, 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, Bii .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afd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Έχουμε υποθέσει την ύπαρξη τριών (3) μόνο Συμμετεχόντων στη Δημοπρασία που αναπαρίστανται με τρία διακριτά  χρώματα, Πράσινο, Γαλάζιο και Μπλέ σκούρο.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afd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Ο αριθμός των Γύρων είναι περιορισμένος για να καλύψει πιθανά διαφορετικά σενάρια εξέλιξης. 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0">
              <a:lnSpc>
                <a:spcPct val="60000"/>
              </a:lnSpc>
              <a:spcBef>
                <a:spcPts val="2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4:39:38Z</dcterms:created>
  <dc:creator>Georgios Avramidis</dc:creator>
  <dc:description/>
  <dc:language>en-US</dc:language>
  <cp:lastModifiedBy>kolyvas</cp:lastModifiedBy>
  <cp:lastPrinted>2000-10-27T14:53:53Z</cp:lastPrinted>
  <dcterms:modified xsi:type="dcterms:W3CDTF">2000-11-01T12:46:02Z</dcterms:modified>
  <cp:revision>211</cp:revision>
  <dc:subject/>
  <dc:title>ΔΗΜΟΠΡΑΣΙΑ ΓΙΑ ΤΗ ΧΟΡΗΓΗΣΗ ΑΔΕΙΩΝ ΣΤΑΘΕΡΗΣ ΑΣΥΡΜΑΤΗΣ ΠΡΟΣΒΑΣΗΣ   Παρουσίαση  Διαγραμματικού Σεναρίου Εξέλιξης    KPMG - Νοέμβριος 2000</dc:title>
</cp:coreProperties>
</file>